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E75-DEC1-49FF-940C-973BB359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E35-A28E-46D8-A45C-DA4B9AC3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677-F98F-423A-845C-927551D7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20E-A082-434C-9517-1B75BE5F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89BA-2BCD-469C-9DCC-FD945EF5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3B61-FCD4-43BF-A66C-6B0501CB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B259-EB78-43C1-8DCD-8F7D6246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207C-949B-4DF2-8513-9E96C0B7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693C-C0F5-4DF6-AAA2-786A4E83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9508-040A-4994-BF49-6B1C62A2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491E-1DA7-4E94-AD66-E4188183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2EE-C398-46B5-9585-24F8DCD9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0055-F596-4FD9-B2EF-2D7C5226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2DAA-F195-47DE-AD10-382B847C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5EB0-6D0C-4D9C-87A9-FBE436F5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2DF0-F873-4F07-8E60-143BC912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8974-3367-4081-87D5-8D36F036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898E2-8D14-4C44-A826-4E39F807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DF3E4-3FAD-422A-AD0B-A81AD704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04DE9-A8B1-49AF-8046-0FEFAF8C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A8E5-0C80-4D90-A7C9-03F5037B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EAE6D-0989-4695-B461-8A44AB95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270-668E-42E8-BC12-96244640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C5878-023C-4053-8DA6-13193B80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16C5-1E9B-49A9-92D3-36210E9C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F42EA-CC1F-4DEA-855C-FF460EA2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3C04-B419-4411-BAA2-25DFF943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9D503-365C-4FE9-8799-74D8B4A4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B27F-C80E-4167-BB94-08E241FF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99FE-3D27-4468-B868-E3D7F9BD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EF098-7C6C-4CE5-8F3A-E83A06DB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3EBC-DFEB-4730-AB29-8A742D6D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3ABE7-1FD7-4B4E-BDA2-C640527A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A41-031A-4FDE-AFCE-5AFF4CA7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2C892-66AC-4998-A59D-C12E6DD4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09BA2-E278-4648-A5BF-69558B1E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0AECF-BCDD-4253-8BCF-DD1CEE33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474E4-B73E-47AF-8833-E1693FAC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C2026-887E-47DB-AF6C-6A62F9EC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48F6C-5488-43BD-A440-1C3E7018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4168A-136A-4B28-A24C-6E822045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02796-E345-428F-BE47-8DD2BA62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97793-C9DA-4780-8A28-EE7D2A12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7F0-BA8B-4E7D-8CD8-21AB6C7E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AF4-1F26-4728-A0EF-62708BBA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4AA-F2D7-48CC-9728-B6683290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780-FAFF-4312-A17B-70B3A2C1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94E-2A0E-499F-9A82-81C3C535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9EEA-9022-4B32-8F65-EF7932CE83EA}" type="slidenum">
              <a:rPr b="0" lang="sr-Latn-R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E4D8-DBA4-4B2A-8A59-87D755CCA798}" type="slidenum">
              <a:rPr b="0" lang="sr-Latn-R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027B-A407-40D6-9B39-CB6B01B1B927}" type="slidenum">
              <a:rPr b="0" lang="sr-Latn-R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EC12-F230-49F7-8248-C97236CF3638}" type="slidenum">
              <a:rPr b="0" lang="sr-Latn-R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imeri%201%20i%202.nb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58920" y="1795320"/>
            <a:ext cx="662616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0000"/>
                </a:solidFill>
                <a:latin typeface="Arial"/>
              </a:rPr>
              <a:t>Операције са комплексним бројевим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анијела Милутиновић 1011/2011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 u="sng">
                <a:solidFill>
                  <a:srgbClr val="d83e2c"/>
                </a:solidFill>
                <a:uFillTx/>
                <a:latin typeface="Constantia"/>
                <a:hlinkClick r:id="rId1"/>
              </a:rPr>
              <a:t>Уводни део час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Content Placeholder 2" descr=""/>
          <p:cNvPicPr/>
          <p:nvPr/>
        </p:nvPicPr>
        <p:blipFill>
          <a:blip r:embed="rId2"/>
          <a:stretch/>
        </p:blipFill>
        <p:spPr>
          <a:xfrm>
            <a:off x="1414440" y="2077920"/>
            <a:ext cx="624204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0000"/>
                </a:solidFill>
                <a:latin typeface="Constantia"/>
              </a:rPr>
              <a:t>Централни део час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финишемо операције са комплексним бројевим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водимо примере за сваку од тих операциј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једно са ученицима уочавамо законитости које важе за структуру комплексних бројев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Операције са комплексним бројевим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Content Placeholder 2" descr=""/>
          <p:cNvPicPr/>
          <p:nvPr/>
        </p:nvPicPr>
        <p:blipFill>
          <a:blip r:embed="rId1"/>
          <a:stretch/>
        </p:blipFill>
        <p:spPr>
          <a:xfrm>
            <a:off x="1414440" y="2077920"/>
            <a:ext cx="624204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0000"/>
                </a:solidFill>
                <a:latin typeface="Constantia"/>
              </a:rPr>
              <a:t>Операције са комплексним бројевим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Content Placeholder 2" descr=""/>
          <p:cNvPicPr/>
          <p:nvPr/>
        </p:nvPicPr>
        <p:blipFill>
          <a:blip r:embed="rId1"/>
          <a:stretch/>
        </p:blipFill>
        <p:spPr>
          <a:xfrm>
            <a:off x="1414440" y="2077920"/>
            <a:ext cx="624204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0000"/>
                </a:solidFill>
                <a:latin typeface="Arial"/>
              </a:rPr>
              <a:t>Задаци за рад на час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Content Placeholder 2" descr=""/>
          <p:cNvPicPr/>
          <p:nvPr/>
        </p:nvPicPr>
        <p:blipFill>
          <a:blip r:embed="rId1"/>
          <a:stretch/>
        </p:blipFill>
        <p:spPr>
          <a:xfrm>
            <a:off x="1371600" y="2077920"/>
            <a:ext cx="628488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0000"/>
                </a:solidFill>
                <a:latin typeface="Arial"/>
              </a:rPr>
              <a:t>Задаци за вежб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Content Placeholder 2" descr=""/>
          <p:cNvPicPr/>
          <p:nvPr/>
        </p:nvPicPr>
        <p:blipFill>
          <a:blip r:embed="rId1"/>
          <a:stretch/>
        </p:blipFill>
        <p:spPr>
          <a:xfrm>
            <a:off x="1371600" y="2077920"/>
            <a:ext cx="628488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29:17Z</dcterms:created>
  <dc:creator>DacaMajaJoka</dc:creator>
  <dc:description/>
  <dc:language>en-US</dc:language>
  <cp:lastModifiedBy>DacaMajaJoka</cp:lastModifiedBy>
  <dcterms:modified xsi:type="dcterms:W3CDTF">2012-01-21T14:38:41Z</dcterms:modified>
  <cp:revision>15</cp:revision>
  <dc:subject/>
  <dc:title>Операције са комплексним бројевима</dc:title>
</cp:coreProperties>
</file>